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DC59-E299-4130-AF5A-071BA20AF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BDB2A-C0C5-456F-95F3-037346FB7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93CFA-DF1E-4443-91A7-9161B3229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9F2FE-79BD-421C-A309-A7403C7F9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208A4-8E44-47D2-BA6E-B34154A06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A7CAF-5265-4319-8688-025F9199E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79E37-8674-4DC0-B6FC-997116E01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ACDE5-CCA3-4F97-882F-73D95F728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C093B-6B47-4B79-B53E-9CEADA2B9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FD3EA-572C-43F0-A8C5-29C7A07CF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C65AB-DC6A-4821-8593-EF5BE010D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4FC03-7B44-4F42-B83B-842D7549F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703B7-A5C1-4C80-BCE5-D364726BC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E26DB-6AF9-4E4C-B1C6-9E267919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DB373-5E93-4540-90F2-B26483375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8D4E8-7D14-471C-80C8-B4217F0D0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A51F3-DC71-46A9-BB69-1642CD49C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1D3D7-4517-407F-936E-5F8C5A7A1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9019D-48BB-4E26-907D-1EA321661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7559-A71D-4EFE-AD20-50AFC94B8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C62E0-2ECC-4161-BCA4-9ABABC184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C776-6C66-4B87-B98E-D0F439366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8D069-779F-40F7-BF94-9DF33CAE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B12D-7887-4707-9DE3-44F57D36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4631-DAC2-41E6-A8D2-1A5E206B8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4551-A767-4A3E-A169-A617F0675E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E52F-623E-439D-AA2C-36AC2E2C9F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o Tell The Good News</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2, Lesson 1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emon, Philippian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228 - 23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Letters sent from Paul in Rome</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s of Ephesians, Colossians, and Philemon were carried by Tychicus and Onesim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us and Colossae were located in the same general area in As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eems that Philemon was a member of the church at Colossa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hilemon</a:t>
            </a:r>
            <a:endParaRPr b="0" lang="en-US" sz="4400" spc="-1" strike="noStrike">
              <a:solidFill>
                <a:srgbClr val="b7e7ff"/>
              </a:solidFill>
              <a:latin typeface="Arial"/>
            </a:endParaRPr>
          </a:p>
        </p:txBody>
      </p:sp>
      <p:sp>
        <p:nvSpPr>
          <p:cNvPr id="9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sent the letter to Philemon and to others in the church in his hous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expressed joy because saints had been refreshed through Philemon’s ac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Onesimus was Philemon’s slave, Paul appealed to Philemon to receive him as a broth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offered to pay Philemon for any loss Onesimus had caused by running away, and pointed out that Philemon was indebted to him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phras and others with Paul sent their gree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Another letter sent from Paul in Rome</a:t>
            </a:r>
            <a:endParaRPr b="0" lang="en-US" sz="40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in A.D. 63 Epaphroditus brought a gift to Paul from the church at Philipp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sent the Philippian letter back expressing his appreci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pi was located in Macedonia, so this letter could not have been sent easily with the other prison let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5331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Philippians 1</a:t>
            </a:r>
            <a:endParaRPr b="0" lang="en-US" sz="4000" spc="-1" strike="noStrike">
              <a:solidFill>
                <a:srgbClr val="b7e7ff"/>
              </a:solidFill>
              <a:latin typeface="Arial"/>
            </a:endParaRPr>
          </a:p>
        </p:txBody>
      </p:sp>
      <p:sp>
        <p:nvSpPr>
          <p:cNvPr id="98"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nd Timothy greet the saints in Philipp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expresses thankfulness for association with them in the gospel and he prays that they will increase in knowledge and understandi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imprisonment has furthered preaching of the gospel.  Many have heard the gospel and brethren have become more bold to preac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hope is that Christ will be magnified in him, whether by life or by death.  He desired to be with Christ, but also was concerned about them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dmonished them to be of one mind and to be strong when persecu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460080"/>
            <a:ext cx="85104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Philippians 2</a:t>
            </a:r>
            <a:endParaRPr b="0" lang="en-US" sz="4000" spc="-1" strike="noStrike">
              <a:solidFill>
                <a:srgbClr val="b7e7ff"/>
              </a:solidFill>
              <a:latin typeface="Arial"/>
            </a:endParaRPr>
          </a:p>
        </p:txBody>
      </p:sp>
      <p:sp>
        <p:nvSpPr>
          <p:cNvPr id="100"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the interest of others above your ow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ve to be like Christ.  He humbled himself in coming to earth and was obedient to the point of deat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 your lives to be good examples in this perverse world.  Hold fast to the gospel so your life will not be in vai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sent Timothy to encourage them and to  comfort himself in knowing their condi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lso sent Epaphroditus back to them.  He was praised for being a faithful serv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240"/>
            <a:ext cx="8510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Philippians 3</a:t>
            </a:r>
            <a:endParaRPr b="0" lang="en-US" sz="4000" spc="-1" strike="noStrike">
              <a:solidFill>
                <a:srgbClr val="b7e7ff"/>
              </a:solidFill>
              <a:latin typeface="Arial"/>
            </a:endParaRPr>
          </a:p>
        </p:txBody>
      </p:sp>
      <p:sp>
        <p:nvSpPr>
          <p:cNvPr id="102"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ales in comparison to Christ.  He counted his sufferings as insignifica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did not feel that he could be complacent in reaching the goal.  He continued to press toward the prize and stressed singleness in purpos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ose that are enemies of Christ who are interested in worldly things.  Our citizenship is in hea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104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hilippians 4</a:t>
            </a:r>
            <a:endParaRPr b="0" lang="en-US" sz="4400" spc="-1" strike="noStrike">
              <a:solidFill>
                <a:srgbClr val="b7e7ff"/>
              </a:solidFill>
              <a:latin typeface="Arial"/>
            </a:endParaRPr>
          </a:p>
        </p:txBody>
      </p:sp>
      <p:sp>
        <p:nvSpPr>
          <p:cNvPr id="10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united, and help others to be united al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be anxious, ask God and he will supply your nee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tate on righteous principles and God will be with yo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e departed from Macedonia, they were the ones to supply his needs.  His interest was in their benefit from giving, more than he was in their filling his physical nee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nt greetings from the saints, especially those of Caesar’s househ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3-08T02:21:11Z</dcterms:modified>
  <cp:revision>50</cp:revision>
  <dc:subject/>
  <dc:title>Life of Christ, Part 2 In Perea</dc:title>
</cp:coreProperties>
</file>